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46AE-2B66-4024-A12D-2B617BE19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614B-7165-4A68-8E92-DE6F2873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AFCB-76FC-48B4-A9AD-0FD675909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D0E2-E146-4B3C-ADA7-7FE91E68F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3765-D779-4071-85EF-79529052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F66E-66AD-4058-B634-8691AAD6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4C2D-AFD2-4FD2-8DDB-A411325B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A01F-6EAC-482C-A8C0-65E85F15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4452-5503-4486-937E-97140447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3447-AA30-47A5-82FB-ACE53DFB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9291-0B15-42A6-BAB7-EAE973F1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91F3-C339-44D3-BBDC-0BF3C2D8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8B71-7C35-477C-B506-EA83BEE6D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ligraph421 BT"/>
              </a:rPr>
              <a:t>Chinese New Year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ligraph421 BT"/>
              </a:rPr>
              <a:t>20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78400" y="3733920"/>
            <a:ext cx="2084400" cy="2666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62120" y="4191120"/>
            <a:ext cx="30477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nese New Y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ese New Year starts with the New Moon on the first day of the new year and ends on the full moon 15 days l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year is represented by an animal on the Chinese Zodi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nese Zodi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ebruary 3, 2011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ear of the Rabb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rding to Chinese tradition, th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Rabb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s a year in which you can catch your breath and calm your nerves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562720" y="3886200"/>
            <a:ext cx="2590560" cy="1940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219320" y="3809880"/>
            <a:ext cx="274320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rag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rt of Chinese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ly used for decorative purp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ese once believed they were decedents of drag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95280" y="4176720"/>
            <a:ext cx="2133720" cy="1442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43600" y="3809880"/>
            <a:ext cx="227664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14:42:19Z</dcterms:created>
  <dc:creator>Patrick J. Mooney</dc:creator>
  <dc:description/>
  <dc:language>en-US</dc:language>
  <cp:lastModifiedBy>Patrick J. Mooney</cp:lastModifiedBy>
  <dcterms:modified xsi:type="dcterms:W3CDTF">2011-02-01T14:59:34Z</dcterms:modified>
  <cp:revision>1</cp:revision>
  <dc:subject/>
  <dc:title>Chinese New Year  2011</dc:title>
</cp:coreProperties>
</file>